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3A3-2222-482D-AF34-82D2FD4A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655-CC4F-4523-9B85-5E655EA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E43-9423-4640-B632-AA486ABB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ED2-5456-4F01-ABF2-F0A93AEE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84BB-4C72-4686-80B7-1A022C4A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2328-F9FD-4177-B122-7581AC5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A04-FA97-42F2-A265-EF9059B6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0209-9332-44F1-8098-319F3AC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085B-8604-4554-AD1F-13071AE6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8D58-B52D-455B-8354-B98AF0AC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0C66-77A7-4C6C-8F40-C10494D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5FD-5FC9-4C6D-A19E-6D42DE4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83B-7F68-49DB-92B8-1F53681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5EB3-C447-4AF1-A114-0B69FBD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ED7-6B33-4A51-A00E-43829B65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5D4-E455-4E6F-B40E-CC1B0F02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CE0E-9437-4D42-8E76-09281591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5D5B-71B4-421A-AD9D-69D8A327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1EF6-4CE5-4E41-98A0-FE729169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FA97-4BEA-4CC2-B5EA-0D306C29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4AF2-7ECF-47EF-B890-31685DC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A87B-92A4-4DB9-BBC6-51C92F4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E98-4B89-4235-A524-0CF17DA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7BE3-7DB8-45B2-80E9-5FED1E8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625E-8761-4CA6-B92B-D6E5B66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ECF4-765E-4E1C-AE28-5AB8E0F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F93A-9C58-4B07-B055-C63CF4A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7E2B-80AC-4780-BB2A-8E7C0684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1190-4F87-4447-9576-8C0316C4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5E7D-365E-4F89-A9C1-A2D2C5A4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BADF-A5D8-4CF6-84A8-38D67A28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8457-6DF8-43B9-9507-2BB6271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ADC1-4746-4076-B720-FF658FE8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928-D303-4725-922D-72407F4E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543D-9C10-4321-A112-F648CA6F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5768-185A-4168-94D9-EA3626E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E97B5-C92A-4E4C-80F3-B884F8B4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86C0-CE2B-4393-9253-3C5B6A5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6FFE-9CD8-4929-8ED9-4A25E64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E52E-3902-4503-8A38-B3FBF6B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81F0-7E21-4556-BC90-B184693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74BA-A283-4549-A2C5-F5997E73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70A7-EFC1-443A-A6D9-721B99EA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DF87-A379-44D5-8A2D-557A94EA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853-756D-4E1B-88B5-24D7A304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8BAD-C7CB-42C7-A318-ED767711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12A6-C8CE-42F6-80D0-5D8F0ACD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C102-6CB7-4105-9BD5-53CB2CE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AD56-6362-4878-ABD4-7B6ED3BD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FCEB-67B4-4552-B014-57F74536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31B48-026E-4E40-9CCA-6E3BA94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CFE8-02B1-4DA3-88C9-708A5C96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48B5-E18D-4DEB-B105-5535EA3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FD87E-0959-4EBE-8248-41D1E52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0467-E477-4FBE-B2EC-B0BF298C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CB1-7911-42DC-A5D7-C0BF41A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10F44-DBC3-4BF0-9492-002387E8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FC8A-108E-4F07-BDF6-3B5A2F02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D6D81-200F-49C2-885D-A0C2827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4C92-CCC5-4A88-A7D4-0E926AB5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5ACB-CDAE-4223-B927-ECDA440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7B3C2-BB39-4D41-AE25-5C3E546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1A685-1076-400C-8A59-6018C5D2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04D67-CAAB-4833-900E-07D42A9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5185B-0DFC-40EA-8168-9A75CB7A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4423-FC6E-440F-B5BA-751E3DD5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801-0E75-4FB2-A99F-FBC2577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2D30-4D79-480F-9E40-413CDB62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3846E-01ED-4F4F-8DF9-5AD2663B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E8584-34C8-4B8A-BAE2-C1E7321B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D9B6-E0BE-4914-AED3-3AC12F1E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33592-4BCD-49DD-A8C8-3B0BCBB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7F124-480C-4F1C-ACA9-935B8FDA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7B77F-46A3-4393-994F-808B59B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6B884-F4BB-49FE-BA13-EE9F8CD9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FF3C3-46E6-4A9B-94B3-41F6EB25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E6B7F-F4F4-4557-AD5B-A2A58FF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99D-A82D-4F8F-915C-3BEC488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EB7D-8CDF-4B7B-9ED1-11BB421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C6BEB-6801-4049-B2DB-811414E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084A4-36D8-4FB6-A07C-660110A7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7467-15AD-4AFF-A58C-E8CC4F65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8CD7-2D3F-48F2-AA30-4F9DBCD2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64F-F104-41C9-9A11-258BAF9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bf5">
              <a:alpha val="33000"/>
            </a:srgbClr>
          </a:solidFill>
          <a:ln cap="rnd" w="3240">
            <a:solidFill>
              <a:srgbClr val="044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1c3f0"/>
            </a:solidFill>
            <a:miter/>
          </a:ln>
          <a:effectLst>
            <a:outerShdw dist="12600" dir="5400000" blurRad="0" rotWithShape="0">
              <a:srgbClr val="144485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AAF-77AF-4878-BE0B-71D1668E1C47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7ebf5">
              <a:alpha val="33000"/>
            </a:srgbClr>
          </a:solidFill>
          <a:ln cap="rnd" w="3240">
            <a:solidFill>
              <a:srgbClr val="044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b1c3f0"/>
            </a:solidFill>
            <a:miter/>
          </a:ln>
          <a:effectLst>
            <a:outerShdw dist="12600" dir="5400000" blurRad="0" rotWithShape="0">
              <a:srgbClr val="144485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1568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A6C7-08AF-4D98-A86F-690DBB3CAF46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1568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FC7-6F18-4F36-A827-0AA4C1B9AB39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0786-7AD0-4830-A1DE-163AB2F9CEF7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142b4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0DC4-D910-4B52-A2E5-35B6312B806D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2161-C634-4169-BB56-30F0D4369B77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656c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396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9639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9639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f811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419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0078-1338-4DF2-B10A-DF6FD9C1C90E}" type="slidenum">
              <a:rPr b="0" lang="en-US" sz="1200" spc="-1" strike="noStrike">
                <a:solidFill>
                  <a:srgbClr val="02419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Grindstone Elementary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19" name="Picture 4" descr="Picture-1.png"/>
          <p:cNvPicPr/>
          <p:nvPr/>
        </p:nvPicPr>
        <p:blipFill>
          <a:blip r:embed="rId2"/>
          <a:stretch/>
        </p:blipFill>
        <p:spPr>
          <a:xfrm>
            <a:off x="1676520" y="1311120"/>
            <a:ext cx="716256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Overall First Floor Corridor Plan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1" name="Picture 7" descr="Picture-2.png"/>
          <p:cNvPicPr/>
          <p:nvPr/>
        </p:nvPicPr>
        <p:blipFill>
          <a:blip r:embed="rId2"/>
          <a:stretch/>
        </p:blipFill>
        <p:spPr>
          <a:xfrm>
            <a:off x="1523880" y="1322280"/>
            <a:ext cx="716292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orridor Plan Area 1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3" name="Picture 3" descr="G:\Arch\2008219\01\Interiors\Picture-3.png"/>
          <p:cNvPicPr/>
          <p:nvPr/>
        </p:nvPicPr>
        <p:blipFill>
          <a:blip r:embed="rId2"/>
          <a:stretch/>
        </p:blipFill>
        <p:spPr>
          <a:xfrm>
            <a:off x="1523880" y="1219320"/>
            <a:ext cx="7283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orridor Plan Area 2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5" name="Picture 4" descr="Picture-4.png"/>
          <p:cNvPicPr/>
          <p:nvPr/>
        </p:nvPicPr>
        <p:blipFill>
          <a:blip r:embed="rId2"/>
          <a:stretch/>
        </p:blipFill>
        <p:spPr>
          <a:xfrm>
            <a:off x="1447920" y="1077840"/>
            <a:ext cx="74674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Berea_classroom1.jpg"/>
          <p:cNvPicPr/>
          <p:nvPr/>
        </p:nvPicPr>
        <p:blipFill>
          <a:blip r:embed="rId2"/>
          <a:stretch/>
        </p:blipFill>
        <p:spPr>
          <a:xfrm>
            <a:off x="1639800" y="1352520"/>
            <a:ext cx="6632640" cy="47005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Typical Classroom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Typical Classroom with furnitur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29" name="Picture 6" descr="Picture1.png"/>
          <p:cNvPicPr/>
          <p:nvPr/>
        </p:nvPicPr>
        <p:blipFill>
          <a:blip r:embed="rId2"/>
          <a:stretch/>
        </p:blipFill>
        <p:spPr>
          <a:xfrm>
            <a:off x="2057400" y="1219320"/>
            <a:ext cx="60958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orridor Elevation Options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pic>
        <p:nvPicPr>
          <p:cNvPr id="331" name="Picture 3" descr="Picture-5.png"/>
          <p:cNvPicPr/>
          <p:nvPr/>
        </p:nvPicPr>
        <p:blipFill>
          <a:blip r:embed="rId2"/>
          <a:stretch/>
        </p:blipFill>
        <p:spPr>
          <a:xfrm>
            <a:off x="1371600" y="1146240"/>
            <a:ext cx="73915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Picture-6.png"/>
          <p:cNvPicPr/>
          <p:nvPr/>
        </p:nvPicPr>
        <p:blipFill>
          <a:blip r:embed="rId2"/>
          <a:stretch/>
        </p:blipFill>
        <p:spPr>
          <a:xfrm>
            <a:off x="1676520" y="1066680"/>
            <a:ext cx="7162560" cy="55436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Gymnasium Elevation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Picture-7.png"/>
          <p:cNvPicPr/>
          <p:nvPr/>
        </p:nvPicPr>
        <p:blipFill>
          <a:blip r:embed="rId2"/>
          <a:stretch/>
        </p:blipFill>
        <p:spPr>
          <a:xfrm>
            <a:off x="1600200" y="914400"/>
            <a:ext cx="7000920" cy="54100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Gill Sans MT"/>
              </a:rPr>
              <a:t>Cafeteria / Stage Elevation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6:14Z</dcterms:created>
  <dc:creator>Cindy Sakotas</dc:creator>
  <dc:description/>
  <dc:language>en-US</dc:language>
  <cp:lastModifiedBy>Administrator</cp:lastModifiedBy>
  <dcterms:modified xsi:type="dcterms:W3CDTF">2010-03-11T12:42:07Z</dcterms:modified>
  <cp:revision>16</cp:revision>
  <dc:subject/>
  <dc:title>Grindstone Elementary</dc:title>
</cp:coreProperties>
</file>